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9A2E-34F1-4D38-A9C2-61F943494D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69EE-81A3-4225-BEB2-4B15D2273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BDEB-8303-4345-94D5-DC3FC46E80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98200" y="4358880"/>
            <a:ext cx="501156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348-38ED-4C5F-ABD2-0DB9EAC2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6FB-BD0A-4868-A96B-14151001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8F6-8063-421E-B163-EB8DCEEB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8404-8CB3-4BFA-AA5F-BD1F6745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E36-8D32-4FA0-93DB-321A0C60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10CF-5E6D-4B0F-8868-C4D466AC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5D7-CB21-4988-ADE6-8EA13DEA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6DD-C498-4D4A-ADF3-27BBF1D3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A5D8-DB51-4125-A71F-999479A8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4D81-307E-4DD2-AA1F-F449F828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CAF-412C-4AF0-98D6-8156CF05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AAB3-4030-48B2-B2D1-A8F24DE7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EAC3-7114-440F-96D7-81DF8AC114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ubtitle 2" descr=""/>
          <p:cNvPicPr/>
          <p:nvPr/>
        </p:nvPicPr>
        <p:blipFill>
          <a:blip r:embed="rId1"/>
          <a:stretch/>
        </p:blipFill>
        <p:spPr>
          <a:xfrm>
            <a:off x="1749600" y="3389400"/>
            <a:ext cx="5419440" cy="1463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04920" y="268200"/>
            <a:ext cx="8610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AFRICA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search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ustainable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ntensification for the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xt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ne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Tamale, Ghana, 9-12 Jan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8" descr=""/>
          <p:cNvPicPr/>
          <p:nvPr/>
        </p:nvPicPr>
        <p:blipFill>
          <a:blip r:embed="rId3"/>
          <a:stretch/>
        </p:blipFill>
        <p:spPr>
          <a:xfrm>
            <a:off x="378000" y="1805040"/>
            <a:ext cx="8619840" cy="207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line, current activities, projected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s of M&amp;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rgeting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act Evaluation and M&amp;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6"/>
          <p:cNvSpPr/>
          <p:nvPr/>
        </p:nvSpPr>
        <p:spPr>
          <a:xfrm>
            <a:off x="444600" y="5011560"/>
            <a:ext cx="8020080" cy="180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5"/>
          <p:cNvSpPr/>
          <p:nvPr/>
        </p:nvSpPr>
        <p:spPr>
          <a:xfrm>
            <a:off x="305748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-9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9"/>
          <p:cNvSpPr/>
          <p:nvPr/>
        </p:nvSpPr>
        <p:spPr>
          <a:xfrm flipH="1">
            <a:off x="3564000" y="4981680"/>
            <a:ext cx="1440" cy="30456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0"/>
          <p:cNvSpPr/>
          <p:nvPr/>
        </p:nvSpPr>
        <p:spPr>
          <a:xfrm>
            <a:off x="5770440" y="5589720"/>
            <a:ext cx="10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-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31"/>
          <p:cNvSpPr/>
          <p:nvPr/>
        </p:nvSpPr>
        <p:spPr>
          <a:xfrm>
            <a:off x="6281640" y="4948200"/>
            <a:ext cx="0" cy="35712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0"/>
          <p:cNvSpPr/>
          <p:nvPr/>
        </p:nvSpPr>
        <p:spPr>
          <a:xfrm>
            <a:off x="1171440" y="436680"/>
            <a:ext cx="667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ear 1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0"/>
          <p:cNvSpPr/>
          <p:nvPr/>
        </p:nvSpPr>
        <p:spPr>
          <a:xfrm>
            <a:off x="534960" y="4948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Zapf Dingbats"/>
                <a:ea typeface="Zapf Dingbats"/>
              </a:rPr>
              <a:t>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5"/>
          <p:cNvSpPr/>
          <p:nvPr/>
        </p:nvSpPr>
        <p:spPr>
          <a:xfrm>
            <a:off x="44460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-3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14200" y="1839960"/>
            <a:ext cx="22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Selec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2864520" y="142236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3"/>
          <p:cNvCxnSpPr/>
          <p:nvPr/>
        </p:nvCxnSpPr>
        <p:spPr>
          <a:xfrm>
            <a:off x="419040" y="2566800"/>
            <a:ext cx="87552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69" name="TextBox 4"/>
          <p:cNvSpPr/>
          <p:nvPr/>
        </p:nvSpPr>
        <p:spPr>
          <a:xfrm>
            <a:off x="1200600" y="26971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 -&gt; Indicato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944720" y="31701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762720" y="36622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4327560" y="2197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25"/>
          <p:cNvCxnSpPr/>
          <p:nvPr/>
        </p:nvCxnSpPr>
        <p:spPr>
          <a:xfrm>
            <a:off x="1293480" y="3087360"/>
            <a:ext cx="17643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28"/>
          <p:cNvCxnSpPr/>
          <p:nvPr/>
        </p:nvCxnSpPr>
        <p:spPr>
          <a:xfrm>
            <a:off x="2000160" y="3565080"/>
            <a:ext cx="17661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30"/>
          <p:cNvCxnSpPr/>
          <p:nvPr/>
        </p:nvCxnSpPr>
        <p:spPr>
          <a:xfrm>
            <a:off x="3563640" y="4071600"/>
            <a:ext cx="27183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32"/>
          <p:cNvCxnSpPr/>
          <p:nvPr/>
        </p:nvCxnSpPr>
        <p:spPr>
          <a:xfrm>
            <a:off x="2527200" y="2082600"/>
            <a:ext cx="199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34"/>
          <p:cNvCxnSpPr/>
          <p:nvPr/>
        </p:nvCxnSpPr>
        <p:spPr>
          <a:xfrm>
            <a:off x="4197240" y="2569680"/>
            <a:ext cx="199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78" name="TextBox 1"/>
          <p:cNvSpPr/>
          <p:nvPr/>
        </p:nvSpPr>
        <p:spPr>
          <a:xfrm>
            <a:off x="927000" y="428796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Impact Evaluation: Scaling Out &amp;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23"/>
          <p:cNvCxnSpPr/>
          <p:nvPr/>
        </p:nvCxnSpPr>
        <p:spPr>
          <a:xfrm>
            <a:off x="1187280" y="4723920"/>
            <a:ext cx="487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43164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&amp;E Immediat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11280" y="1419120"/>
            <a:ext cx="8137440" cy="37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of baselin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of farming systems (ref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of sites and research activities to help design/create Component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ation of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frame activities/indicators -&gt; M&amp;E final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IFPRI vs Implementation partner indicator/survey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ogue with USAID FtF M&amp;E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M&amp;E collaboration arrangements wi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FPRI/SARI-Gh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CRISAT/IER-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380880" y="2146320"/>
            <a:ext cx="1905120" cy="142884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ary D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IR, SARI, Stats Offices, DHS, IFPRI, WB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80880" y="3879720"/>
            <a:ext cx="1876680" cy="228600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 Project D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Monitoring (Indicator)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Additional evaluation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276720" y="2736720"/>
            <a:ext cx="2590560" cy="224820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S/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op(-Livestock)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omic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trition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ometric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Elbow Connector 9"/>
          <p:cNvCxnSpPr>
            <a:stCxn id="83" idx="3"/>
            <a:endCxn id="84" idx="1"/>
          </p:cNvCxnSpPr>
          <p:nvPr/>
        </p:nvCxnSpPr>
        <p:spPr>
          <a:xfrm flipV="1">
            <a:off x="2257200" y="3860640"/>
            <a:ext cx="1019880" cy="1162440"/>
          </a:xfrm>
          <a:prstGeom prst="bentConnector3">
            <a:avLst>
              <a:gd name="adj1" fmla="val 50000"/>
            </a:avLst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86" name="Rectangle 10"/>
          <p:cNvSpPr/>
          <p:nvPr/>
        </p:nvSpPr>
        <p:spPr>
          <a:xfrm>
            <a:off x="6499080" y="2146320"/>
            <a:ext cx="2057400" cy="348624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ntial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nual projections of scaled up/out potential project impacts over next 30-50 years by region, country, SS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27760" y="333360"/>
            <a:ext cx="844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jections of Potential Project Impac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 Scale and Over Ti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26"/>
          <p:cNvCxnSpPr/>
          <p:nvPr/>
        </p:nvCxnSpPr>
        <p:spPr>
          <a:xfrm>
            <a:off x="5867280" y="3870000"/>
            <a:ext cx="6105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89" name="Elbow Connector 2"/>
          <p:cNvCxnSpPr>
            <a:stCxn id="82" idx="3"/>
            <a:endCxn id="84" idx="1"/>
          </p:cNvCxnSpPr>
          <p:nvPr/>
        </p:nvCxnSpPr>
        <p:spPr>
          <a:xfrm>
            <a:off x="2286000" y="2860560"/>
            <a:ext cx="991440" cy="1000800"/>
          </a:xfrm>
          <a:prstGeom prst="bentConnector3">
            <a:avLst>
              <a:gd name="adj1" fmla="val 49981"/>
            </a:avLst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7:43:59Z</dcterms:created>
  <dc:creator>Luca Pellerano</dc:creator>
  <dc:description/>
  <dc:language>en-US</dc:language>
  <cp:lastModifiedBy>PBallantyne</cp:lastModifiedBy>
  <dcterms:modified xsi:type="dcterms:W3CDTF">2012-01-17T05:56:30Z</dcterms:modified>
  <cp:revision>50</cp:revision>
  <dc:subject/>
  <dc:title>Slide 1</dc:title>
</cp:coreProperties>
</file>